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8E9E43-17C7-4375-9759-2F9F9F5394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8C9655-7263-4667-BC6E-7BE5D11799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C7FF71-AD75-46B8-A6A6-7AFE827B88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30E27C-01DE-4544-B30D-C1A6443B6EB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34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o CBHSF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TCOB/CNRH, 24 de fevereiro de 201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05520" y="4605480"/>
            <a:ext cx="32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a bacia do rio Paraíba do Sul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200240" y="5038560"/>
            <a:ext cx="7569000" cy="105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-160200" y="1341360"/>
            <a:ext cx="1020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Impactos sobre usuários internos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09600" y="2000160"/>
            <a:ext cx="9286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548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419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4880" y="1430280"/>
            <a:ext cx="8569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mpactos – usos externo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Deliberação nº 40, de 20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2502000"/>
            <a:ext cx="990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52560" y="257184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809640" y="1500120"/>
            <a:ext cx="814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ustentabilidade financeira da entidade delegatária de funções de agência de ág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341000"/>
            <a:ext cx="963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afirma que os valores das vazões mínimas firmes são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0,29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6,11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, 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conforme NT ANA nº 390/2005/SOC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31417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35751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2880" y="32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NT 390/2005 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essas foram vazões simulad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no âmbito do processo de análise da outorga (vazão firme do PISF é única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26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12880" y="4551480"/>
            <a:ext cx="770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s vazões reais a serem aduzidas em cada eixo somente serão conhecidas quando da operação do PISF, através d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G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serão elaborados peço Conselho Gestor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363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4797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1240560"/>
            <a:ext cx="96332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são estabelecidos valores distintos do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pt-BR" sz="2600" spc="-1" strike="noStrike" baseline="-25000">
                <a:solidFill>
                  <a:srgbClr val="800000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0,5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,0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2581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01464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2880" y="2654280"/>
            <a:ext cx="784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Duplicação da cobrança no Eixo Norte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mbos os Eixos atenderão demandas de atendimento prioritário segundo o CBHSF (Del. Nº 18/2004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2880" y="3976560"/>
            <a:ext cx="7704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ntraria o objetiv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é diferenciar a cobrança por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rioridade de us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ão por eix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78936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422280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274000"/>
            <a:ext cx="947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. 1º: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stabelece que poderá haver reduçã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casos que atendam à Delib. CBHSF nº 18/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8520" y="2660760"/>
          <a:ext cx="970596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660760"/>
                    <a:ext cx="97059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"/>
          <p:cNvSpPr/>
          <p:nvPr/>
        </p:nvSpPr>
        <p:spPr>
          <a:xfrm>
            <a:off x="-376200" y="1630440"/>
            <a:ext cx="1028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cial de Arrecadação PISF - (Deliberação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9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(acréscimo de 60% em relação à Del. 40/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52520" y="1914480"/>
          <a:ext cx="712800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14480"/>
                    <a:ext cx="71280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81240" y="4464000"/>
          <a:ext cx="7343640" cy="16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1240" y="4464000"/>
                    <a:ext cx="73436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560520" y="1413000"/>
            <a:ext cx="871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Les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60520" y="4006800"/>
            <a:ext cx="871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Nor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520" y="2536560"/>
            <a:ext cx="963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Mecanism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 cobrança estabelecid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e os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valore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propost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compatíveis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 a capacidade de pagamento dos usuári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3967200"/>
            <a:ext cx="95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sta forma,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recomenda-se ao CNRH a aprova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os mecanismos e valores de cobrança pelo uso de recursos hídricos sugeridos pelo CBHSF na sua Deliberação nº 40, de 2008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2120" y="18446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0, de 20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72880" y="155736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760" y="350028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0, de 2008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400" y="269316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iso VI, art. 4º da Lei nº 9.984, de 17 de julho de 2000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520" y="4363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5, de 2009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214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 Condicionantes da Res. CNRH nº 48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2880" y="1962360"/>
            <a:ext cx="928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propostos pelo CBHSF por meio da Deliberação nº 45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ão são 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tendo em vista qu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3297240"/>
            <a:ext cx="81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i estabelecida uma vazão mínima firme a ser utilizada em cada eixo, quando, na verdade, a vazão firme outorgada pela ANA é única para os dois eixos. As vazões a serem aduzidas por eixo, bem como a sua repartição entre Estados e setores usuários, somente serão definidas no PGA do PISF, quando do início da operação do empreendimen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2120" y="13190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5, de 200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3571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4005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96880" y="1528920"/>
            <a:ext cx="813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Foi estabelecido um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diferenciado por eixos do PISF, sendo 0,5 para o Eixo Leste e 1,0 para o Eixo Norte, quando, na verdade, o objetivo do coeficiente é diferenciar a cobrança entre finalidades de uso (abastecimento humano, dessedentação animal, indústria, irrigação, etc...) e não entre eixos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1627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2060640"/>
            <a:ext cx="431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880" y="1595160"/>
            <a:ext cx="92887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lém disso, o CBHSF propôs que poderá haver redução do valor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usos de abastecimento humano e dessedentação animal, mas não definiu qual será a redução do valor do coefic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abe registrar, que a Deliberação nº 45 propõe, exclusivamente, regras para a cobrança do PISF, apesar de existirem as transposições operadas pela DES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2536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Usos insignificante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353016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cesso de regularização de uso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4723920"/>
            <a:ext cx="95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grama de investimentos definido no Plano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2124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Aprovação pelo CNRH da proposta de cobrança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520" y="33116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Implantação da Agência ou Entidade Delegatária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pende de proposição do CBHSF 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600" y="4449240"/>
            <a:ext cx="87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Elaboração por parte da ANA de estudos técnicos para subsidiar a proposta de metodologia de cobrança do CBHSF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2880" y="1677960"/>
            <a:ext cx="92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nclui-se, por fim, que das seis condições estabelecidas pela Resolução CNRH nº 48, de 2005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três já estão atendid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u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s às propostas encaminhadas pelas Deliberações do CBHSF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m da aprovação do CNRH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última condi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 à implantação da Agência de Bacia Hidrográfica ou de entidade delegatária de suas funções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 de proposição do CBHSF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03120" y="1700280"/>
            <a:ext cx="5384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odrigo Flecha Ferreira Al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erintendente de Apoio à Gestão de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836640"/>
            <a:ext cx="588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9240" y="5156280"/>
            <a:ext cx="842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ência de Cobrança pelo uso de Recursos Hídricos da Superintendência de Apoio à Gestão de Recursos Hídricos – GECOB/SA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Setor Policial Sul – Área 5 – Quadra 3 – Bloco B - Brasília – DF – 70610-200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Tel: (61) 2109 – 543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www.ana.gov.br/CobrancaUs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520" y="2771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4520" y="2771640"/>
            <a:ext cx="4032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atheus A. Rocha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tagiári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52880" y="1341360"/>
            <a:ext cx="385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brigado pela Atenção 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2880" y="141300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Usos insignifican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637000"/>
          <a:ext cx="10137600" cy="227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3760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0, de 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76160" y="134136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73240" y="1916280"/>
            <a:ext cx="6624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de: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1800" y="2246040"/>
            <a:ext cx="86425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classe de enquadramento do corpo d´água no qual se faz a captação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t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s boas práticas de uso e conservação da ág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4880" y="3718080"/>
            <a:ext cx="7920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41560" y="4365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l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41560" y="4941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rrigação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ons irr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41560" y="549288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76160" y="1962720"/>
            <a:ext cx="7201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,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 F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6160" y="138672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0481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03440" y="39841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31800" y="5505120"/>
            <a:ext cx="864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prioridade de uso estabelecida no Plano de Recursos Hídricos da Bacia do Rio São Francisc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47037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04880" y="249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360" y="2421000"/>
          <a:ext cx="8915400" cy="2246400"/>
        </p:xfrm>
        <a:graphic>
          <a:graphicData uri="http://schemas.openxmlformats.org/drawingml/2006/table">
            <a:tbl>
              <a:tblPr/>
              <a:tblGrid>
                <a:gridCol w="4295880"/>
                <a:gridCol w="1406520"/>
                <a:gridCol w="1404720"/>
                <a:gridCol w="18082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nçamento – DBO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,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B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2060640"/>
          <a:ext cx="8915400" cy="3859200"/>
        </p:xfrm>
        <a:graphic>
          <a:graphicData uri="http://schemas.openxmlformats.org/drawingml/2006/table">
            <a:tbl>
              <a:tblPr/>
              <a:tblGrid>
                <a:gridCol w="4537080"/>
                <a:gridCol w="2555640"/>
                <a:gridCol w="1822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cons irr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para irrigação, criação animal e aqüicultura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demais setores usuário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lanç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1487520"/>
            <a:ext cx="835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Total (Deliberação nº 40, de 2008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04760" y="2023920"/>
            <a:ext cx="96346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NA</cp:lastModifiedBy>
  <cp:lastPrinted>2001-06-06T00:02:34Z</cp:lastPrinted>
  <dcterms:modified xsi:type="dcterms:W3CDTF">2010-02-24T18:14:11Z</dcterms:modified>
  <cp:revision>1371</cp:revision>
  <dc:subject/>
  <dc:title>Apresentação do PowerPoint</dc:title>
</cp:coreProperties>
</file>